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8F2-CA18-4083-9FD2-CFD09920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004-388F-4919-A666-AB5DEF21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EBC-EAE4-4855-95C1-8F4C8C77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DC2-25B4-409D-9BA0-44252BBD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1F6-D68A-44BE-B486-8F5FFCF6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382-F7EE-425E-8AED-270679B1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18A-FA51-420C-8F67-C6D5F438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80D-B50D-4EDD-9EA0-BF8BBA65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40C-6B81-4C84-BA57-51EB0397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9E7-7010-43BC-91EE-7BDED88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3D4-0BDD-4456-9E65-9BF1D75F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0AD-E5D7-404F-87B1-85E1926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EEB9-770F-4E40-844F-AA126CA01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805680" y="1494000"/>
            <a:ext cx="754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Title Here (Helvetica, Bold, 32 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ore/Bridging Projec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0206"/>
                </a:solidFill>
                <a:latin typeface="Arial"/>
              </a:rPr>
              <a:t>Enzyme Function Initiative (E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y Committ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30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FI-logo-final-color"/>
          <p:cNvPicPr/>
          <p:nvPr/>
        </p:nvPicPr>
        <p:blipFill>
          <a:blip r:embed="rId1"/>
          <a:stretch/>
        </p:blipFill>
        <p:spPr>
          <a:xfrm>
            <a:off x="76320" y="19044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mark_bold"/>
          <p:cNvPicPr/>
          <p:nvPr/>
        </p:nvPicPr>
        <p:blipFill>
          <a:blip r:embed="rId2"/>
          <a:stretch/>
        </p:blipFill>
        <p:spPr>
          <a:xfrm>
            <a:off x="8736120" y="235080"/>
            <a:ext cx="338040" cy="438120"/>
          </a:xfrm>
          <a:prstGeom prst="rect">
            <a:avLst/>
          </a:prstGeom>
          <a:ln w="0">
            <a:noFill/>
          </a:ln>
        </p:spPr>
      </p:pic>
      <p:cxnSp>
        <p:nvCxnSpPr>
          <p:cNvPr id="45" name="Straight Arrow Connector 6"/>
          <p:cNvCxnSpPr/>
          <p:nvPr/>
        </p:nvCxnSpPr>
        <p:spPr>
          <a:xfrm flipV="1">
            <a:off x="8076240" y="837720"/>
            <a:ext cx="533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TextBox 7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university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2"/>
          <p:cNvSpPr/>
          <p:nvPr/>
        </p:nvSpPr>
        <p:spPr>
          <a:xfrm>
            <a:off x="1420560" y="228600"/>
            <a:ext cx="63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slide title here (Helvetica, Bold, 24 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7:03:55Z</dcterms:created>
  <dc:creator>John Gerlt</dc:creator>
  <dc:description/>
  <dc:language>en-US</dc:language>
  <cp:lastModifiedBy>John Gerlt</cp:lastModifiedBy>
  <dcterms:modified xsi:type="dcterms:W3CDTF">2011-10-09T14:37:13Z</dcterms:modified>
  <cp:revision>10</cp:revision>
  <dc:subject/>
  <dc:title>PowerPoint Presentation</dc:title>
</cp:coreProperties>
</file>